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15800" y="954000"/>
            <a:ext cx="1632600" cy="1309320"/>
            <a:chOff x="415800" y="954000"/>
            <a:chExt cx="1632600" cy="1309320"/>
          </a:xfrm>
        </p:grpSpPr>
        <p:sp>
          <p:nvSpPr>
            <p:cNvPr id="55" name=""/>
            <p:cNvSpPr/>
            <p:nvPr/>
          </p:nvSpPr>
          <p:spPr>
            <a:xfrm>
              <a:off x="415800" y="1397520"/>
              <a:ext cx="452160" cy="865800"/>
            </a:xfrm>
            <a:prstGeom prst="cube">
              <a:avLst>
                <a:gd name="adj" fmla="val 3525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771120" y="954000"/>
              <a:ext cx="1277280" cy="1203120"/>
              <a:chOff x="771120" y="954000"/>
              <a:chExt cx="1277280" cy="12031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71120" y="954000"/>
                <a:ext cx="1277280" cy="1203120"/>
                <a:chOff x="771120" y="954000"/>
                <a:chExt cx="1277280" cy="1203120"/>
              </a:xfrm>
            </p:grpSpPr>
            <p:sp>
              <p:nvSpPr>
                <p:cNvPr id="58" name=""/>
                <p:cNvSpPr/>
                <p:nvPr/>
              </p:nvSpPr>
              <p:spPr>
                <a:xfrm rot="900000">
                  <a:off x="955440" y="1064160"/>
                  <a:ext cx="982440" cy="98244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4400000">
                  <a:off x="856080" y="1644120"/>
                  <a:ext cx="148680" cy="282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771120" y="954000"/>
                <a:ext cx="1277280" cy="1203120"/>
                <a:chOff x="771120" y="954000"/>
                <a:chExt cx="1277280" cy="1203120"/>
              </a:xfrm>
            </p:grpSpPr>
            <p:sp>
              <p:nvSpPr>
                <p:cNvPr id="61" name=""/>
                <p:cNvSpPr/>
                <p:nvPr/>
              </p:nvSpPr>
              <p:spPr>
                <a:xfrm rot="900000">
                  <a:off x="955440" y="1064160"/>
                  <a:ext cx="982440" cy="9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4400000">
                  <a:off x="856080" y="1644120"/>
                  <a:ext cx="148680" cy="282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" name=""/>
            <p:cNvSpPr/>
            <p:nvPr/>
          </p:nvSpPr>
          <p:spPr>
            <a:xfrm>
              <a:off x="1109160" y="1189800"/>
              <a:ext cx="658800" cy="7675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320920" y="953640"/>
            <a:ext cx="1632240" cy="1309680"/>
            <a:chOff x="2320920" y="953640"/>
            <a:chExt cx="1632240" cy="1309680"/>
          </a:xfrm>
        </p:grpSpPr>
        <p:sp>
          <p:nvSpPr>
            <p:cNvPr id="65" name=""/>
            <p:cNvSpPr/>
            <p:nvPr/>
          </p:nvSpPr>
          <p:spPr>
            <a:xfrm>
              <a:off x="2320920" y="1397520"/>
              <a:ext cx="450360" cy="865800"/>
            </a:xfrm>
            <a:prstGeom prst="cube">
              <a:avLst>
                <a:gd name="adj" fmla="val 3525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674440" y="953640"/>
              <a:ext cx="1278720" cy="1203480"/>
              <a:chOff x="2674440" y="953640"/>
              <a:chExt cx="1278720" cy="120348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2674440" y="953640"/>
                <a:ext cx="1278720" cy="1203480"/>
                <a:chOff x="2674440" y="953640"/>
                <a:chExt cx="1278720" cy="1203480"/>
              </a:xfrm>
            </p:grpSpPr>
            <p:sp>
              <p:nvSpPr>
                <p:cNvPr id="68" name=""/>
                <p:cNvSpPr/>
                <p:nvPr/>
              </p:nvSpPr>
              <p:spPr>
                <a:xfrm rot="900000">
                  <a:off x="2858760" y="1064160"/>
                  <a:ext cx="983880" cy="98244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14400000">
                  <a:off x="2759760" y="1643760"/>
                  <a:ext cx="148680" cy="28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674440" y="953640"/>
                <a:ext cx="1278720" cy="1203480"/>
                <a:chOff x="2674440" y="953640"/>
                <a:chExt cx="1278720" cy="1203480"/>
              </a:xfrm>
            </p:grpSpPr>
            <p:sp>
              <p:nvSpPr>
                <p:cNvPr id="71" name=""/>
                <p:cNvSpPr/>
                <p:nvPr/>
              </p:nvSpPr>
              <p:spPr>
                <a:xfrm rot="900000">
                  <a:off x="2858760" y="1064160"/>
                  <a:ext cx="983880" cy="9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14400000">
                  <a:off x="2759760" y="1643760"/>
                  <a:ext cx="148680" cy="28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" name=""/>
            <p:cNvSpPr/>
            <p:nvPr/>
          </p:nvSpPr>
          <p:spPr>
            <a:xfrm>
              <a:off x="3014280" y="1189800"/>
              <a:ext cx="658800" cy="7675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2f00"/>
                </a:gs>
                <a:gs pos="50000">
                  <a:srgbClr val="006600"/>
                </a:gs>
                <a:gs pos="100000">
                  <a:srgbClr val="00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160880" y="953640"/>
            <a:ext cx="1632240" cy="1309680"/>
            <a:chOff x="4160880" y="953640"/>
            <a:chExt cx="1632240" cy="1309680"/>
          </a:xfrm>
        </p:grpSpPr>
        <p:sp>
          <p:nvSpPr>
            <p:cNvPr id="75" name=""/>
            <p:cNvSpPr/>
            <p:nvPr/>
          </p:nvSpPr>
          <p:spPr>
            <a:xfrm>
              <a:off x="4160880" y="1397520"/>
              <a:ext cx="450360" cy="865800"/>
            </a:xfrm>
            <a:prstGeom prst="cube">
              <a:avLst>
                <a:gd name="adj" fmla="val 3525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514400" y="953640"/>
              <a:ext cx="1278720" cy="1203480"/>
              <a:chOff x="4514400" y="953640"/>
              <a:chExt cx="1278720" cy="12034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4514400" y="953640"/>
                <a:ext cx="1278720" cy="1203480"/>
                <a:chOff x="4514400" y="953640"/>
                <a:chExt cx="1278720" cy="1203480"/>
              </a:xfrm>
            </p:grpSpPr>
            <p:sp>
              <p:nvSpPr>
                <p:cNvPr id="78" name=""/>
                <p:cNvSpPr/>
                <p:nvPr/>
              </p:nvSpPr>
              <p:spPr>
                <a:xfrm rot="900000">
                  <a:off x="4698720" y="1064160"/>
                  <a:ext cx="983880" cy="98244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4400000">
                  <a:off x="4599720" y="1643760"/>
                  <a:ext cx="148680" cy="28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4514400" y="953640"/>
                <a:ext cx="1278720" cy="1203480"/>
                <a:chOff x="4514400" y="953640"/>
                <a:chExt cx="1278720" cy="1203480"/>
              </a:xfrm>
            </p:grpSpPr>
            <p:sp>
              <p:nvSpPr>
                <p:cNvPr id="81" name=""/>
                <p:cNvSpPr/>
                <p:nvPr/>
              </p:nvSpPr>
              <p:spPr>
                <a:xfrm rot="900000">
                  <a:off x="4698720" y="1064160"/>
                  <a:ext cx="983880" cy="9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4400000">
                  <a:off x="4599720" y="1643760"/>
                  <a:ext cx="148680" cy="28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" name=""/>
            <p:cNvSpPr/>
            <p:nvPr/>
          </p:nvSpPr>
          <p:spPr>
            <a:xfrm>
              <a:off x="4854240" y="1189800"/>
              <a:ext cx="658440" cy="7675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b0000"/>
                </a:gs>
                <a:gs pos="50000">
                  <a:srgbClr val="800000"/>
                </a:gs>
                <a:gs pos="100000">
                  <a:srgbClr val="3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905600" y="953640"/>
            <a:ext cx="1632960" cy="1309680"/>
            <a:chOff x="7905600" y="953640"/>
            <a:chExt cx="1632960" cy="1309680"/>
          </a:xfrm>
        </p:grpSpPr>
        <p:sp>
          <p:nvSpPr>
            <p:cNvPr id="85" name=""/>
            <p:cNvSpPr/>
            <p:nvPr/>
          </p:nvSpPr>
          <p:spPr>
            <a:xfrm>
              <a:off x="7905600" y="1397520"/>
              <a:ext cx="450720" cy="865800"/>
            </a:xfrm>
            <a:prstGeom prst="cube">
              <a:avLst>
                <a:gd name="adj" fmla="val 3525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259120" y="953640"/>
              <a:ext cx="1279440" cy="1204920"/>
              <a:chOff x="8259120" y="953640"/>
              <a:chExt cx="1279440" cy="12049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8259120" y="953640"/>
                <a:ext cx="1279440" cy="1204920"/>
                <a:chOff x="8259120" y="953640"/>
                <a:chExt cx="1279440" cy="1204920"/>
              </a:xfrm>
            </p:grpSpPr>
            <p:sp>
              <p:nvSpPr>
                <p:cNvPr id="88" name=""/>
                <p:cNvSpPr/>
                <p:nvPr/>
              </p:nvSpPr>
              <p:spPr>
                <a:xfrm rot="900000">
                  <a:off x="8443800" y="1064160"/>
                  <a:ext cx="983880" cy="98388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4400000">
                  <a:off x="8344440" y="1645200"/>
                  <a:ext cx="149040" cy="28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8259120" y="953640"/>
                <a:ext cx="1279440" cy="1204920"/>
                <a:chOff x="8259120" y="953640"/>
                <a:chExt cx="1279440" cy="1204920"/>
              </a:xfrm>
            </p:grpSpPr>
            <p:sp>
              <p:nvSpPr>
                <p:cNvPr id="91" name=""/>
                <p:cNvSpPr/>
                <p:nvPr/>
              </p:nvSpPr>
              <p:spPr>
                <a:xfrm rot="900000">
                  <a:off x="8443800" y="1064160"/>
                  <a:ext cx="983880" cy="983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4400000">
                  <a:off x="8344440" y="1645200"/>
                  <a:ext cx="149040" cy="28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8598960" y="1190880"/>
              <a:ext cx="658440" cy="7660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60017"/>
                </a:gs>
                <a:gs pos="50000">
                  <a:srgbClr val="990033"/>
                </a:gs>
                <a:gs pos="100000">
                  <a:srgbClr val="4600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032520" y="953640"/>
            <a:ext cx="1632600" cy="1309680"/>
            <a:chOff x="6032520" y="953640"/>
            <a:chExt cx="1632600" cy="1309680"/>
          </a:xfrm>
        </p:grpSpPr>
        <p:sp>
          <p:nvSpPr>
            <p:cNvPr id="95" name=""/>
            <p:cNvSpPr/>
            <p:nvPr/>
          </p:nvSpPr>
          <p:spPr>
            <a:xfrm>
              <a:off x="6032520" y="1397520"/>
              <a:ext cx="450360" cy="865800"/>
            </a:xfrm>
            <a:prstGeom prst="cube">
              <a:avLst>
                <a:gd name="adj" fmla="val 3525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385680" y="953640"/>
              <a:ext cx="1279440" cy="1204920"/>
              <a:chOff x="6385680" y="953640"/>
              <a:chExt cx="1279440" cy="120492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6385680" y="953640"/>
                <a:ext cx="1279440" cy="1204920"/>
                <a:chOff x="6385680" y="953640"/>
                <a:chExt cx="1279440" cy="1204920"/>
              </a:xfrm>
            </p:grpSpPr>
            <p:sp>
              <p:nvSpPr>
                <p:cNvPr id="98" name=""/>
                <p:cNvSpPr/>
                <p:nvPr/>
              </p:nvSpPr>
              <p:spPr>
                <a:xfrm rot="900000">
                  <a:off x="6570360" y="1064160"/>
                  <a:ext cx="983880" cy="98388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rot="14400000">
                  <a:off x="6471000" y="1645200"/>
                  <a:ext cx="149040" cy="28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385680" y="953640"/>
                <a:ext cx="1279440" cy="1204920"/>
                <a:chOff x="6385680" y="953640"/>
                <a:chExt cx="1279440" cy="1204920"/>
              </a:xfrm>
            </p:grpSpPr>
            <p:sp>
              <p:nvSpPr>
                <p:cNvPr id="101" name=""/>
                <p:cNvSpPr/>
                <p:nvPr/>
              </p:nvSpPr>
              <p:spPr>
                <a:xfrm rot="900000">
                  <a:off x="6570360" y="1064160"/>
                  <a:ext cx="983880" cy="983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14400000">
                  <a:off x="6471000" y="1645200"/>
                  <a:ext cx="149040" cy="28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6725880" y="1190880"/>
              <a:ext cx="658800" cy="7660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58720" y="2612520"/>
            <a:ext cx="1519920" cy="1754280"/>
            <a:chOff x="558720" y="2612520"/>
            <a:chExt cx="1519920" cy="1754280"/>
          </a:xfrm>
        </p:grpSpPr>
        <p:sp>
          <p:nvSpPr>
            <p:cNvPr id="105" name=""/>
            <p:cNvSpPr/>
            <p:nvPr/>
          </p:nvSpPr>
          <p:spPr>
            <a:xfrm>
              <a:off x="558720" y="3927960"/>
              <a:ext cx="1117440" cy="43884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68520" y="2612520"/>
              <a:ext cx="1410120" cy="1419480"/>
              <a:chOff x="668520" y="2612520"/>
              <a:chExt cx="1410120" cy="141948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68520" y="2612520"/>
                <a:ext cx="1410120" cy="1419480"/>
                <a:chOff x="668520" y="2612520"/>
                <a:chExt cx="1410120" cy="1419480"/>
              </a:xfrm>
            </p:grpSpPr>
            <p:sp>
              <p:nvSpPr>
                <p:cNvPr id="108" name=""/>
                <p:cNvSpPr/>
                <p:nvPr/>
              </p:nvSpPr>
              <p:spPr>
                <a:xfrm rot="18900000">
                  <a:off x="874800" y="2819160"/>
                  <a:ext cx="997200" cy="99684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10800000">
                  <a:off x="1239120" y="374472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68520" y="2612520"/>
                <a:ext cx="1410120" cy="1419480"/>
                <a:chOff x="668520" y="2612520"/>
                <a:chExt cx="1410120" cy="1419480"/>
              </a:xfrm>
            </p:grpSpPr>
            <p:sp>
              <p:nvSpPr>
                <p:cNvPr id="111" name=""/>
                <p:cNvSpPr/>
                <p:nvPr/>
              </p:nvSpPr>
              <p:spPr>
                <a:xfrm rot="18900000">
                  <a:off x="874800" y="2819160"/>
                  <a:ext cx="997200" cy="9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0800000">
                  <a:off x="1239120" y="374472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"/>
            <p:cNvSpPr/>
            <p:nvPr/>
          </p:nvSpPr>
          <p:spPr>
            <a:xfrm>
              <a:off x="1037160" y="2931120"/>
              <a:ext cx="668520" cy="779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32160" y="2612880"/>
            <a:ext cx="1519560" cy="1753920"/>
            <a:chOff x="2432160" y="2612880"/>
            <a:chExt cx="1519560" cy="1753920"/>
          </a:xfrm>
        </p:grpSpPr>
        <p:sp>
          <p:nvSpPr>
            <p:cNvPr id="115" name=""/>
            <p:cNvSpPr/>
            <p:nvPr/>
          </p:nvSpPr>
          <p:spPr>
            <a:xfrm>
              <a:off x="2432160" y="3927960"/>
              <a:ext cx="1117080" cy="43884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541960" y="2612880"/>
              <a:ext cx="1409760" cy="1418760"/>
              <a:chOff x="2541960" y="2612880"/>
              <a:chExt cx="1409760" cy="14187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41960" y="2612880"/>
                <a:ext cx="1409760" cy="1418760"/>
                <a:chOff x="2541960" y="2612880"/>
                <a:chExt cx="1409760" cy="1418760"/>
              </a:xfrm>
            </p:grpSpPr>
            <p:sp>
              <p:nvSpPr>
                <p:cNvPr id="118" name=""/>
                <p:cNvSpPr/>
                <p:nvPr/>
              </p:nvSpPr>
              <p:spPr>
                <a:xfrm rot="18900000">
                  <a:off x="2748240" y="2819160"/>
                  <a:ext cx="996840" cy="99684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0800000">
                  <a:off x="3112200" y="374436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541960" y="2612880"/>
                <a:ext cx="1409760" cy="1418760"/>
                <a:chOff x="2541960" y="2612880"/>
                <a:chExt cx="1409760" cy="1418760"/>
              </a:xfrm>
            </p:grpSpPr>
            <p:sp>
              <p:nvSpPr>
                <p:cNvPr id="121" name=""/>
                <p:cNvSpPr/>
                <p:nvPr/>
              </p:nvSpPr>
              <p:spPr>
                <a:xfrm rot="18900000">
                  <a:off x="2748240" y="2819160"/>
                  <a:ext cx="996840" cy="9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10800000">
                  <a:off x="3112200" y="374436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>
              <a:off x="2910600" y="2931120"/>
              <a:ext cx="667800" cy="779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2f00"/>
                </a:gs>
                <a:gs pos="50000">
                  <a:srgbClr val="006600"/>
                </a:gs>
                <a:gs pos="100000">
                  <a:srgbClr val="00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303800" y="2612880"/>
            <a:ext cx="1519560" cy="1753920"/>
            <a:chOff x="4303800" y="2612880"/>
            <a:chExt cx="1519560" cy="1753920"/>
          </a:xfrm>
        </p:grpSpPr>
        <p:sp>
          <p:nvSpPr>
            <p:cNvPr id="125" name=""/>
            <p:cNvSpPr/>
            <p:nvPr/>
          </p:nvSpPr>
          <p:spPr>
            <a:xfrm>
              <a:off x="4303800" y="3928320"/>
              <a:ext cx="1117080" cy="43848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413600" y="2612880"/>
              <a:ext cx="1409760" cy="1418760"/>
              <a:chOff x="4413600" y="2612880"/>
              <a:chExt cx="1409760" cy="1418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4413600" y="2612880"/>
                <a:ext cx="1409760" cy="1418760"/>
                <a:chOff x="4413600" y="2612880"/>
                <a:chExt cx="1409760" cy="1418760"/>
              </a:xfrm>
            </p:grpSpPr>
            <p:sp>
              <p:nvSpPr>
                <p:cNvPr id="128" name=""/>
                <p:cNvSpPr/>
                <p:nvPr/>
              </p:nvSpPr>
              <p:spPr>
                <a:xfrm rot="18900000">
                  <a:off x="4619880" y="2819160"/>
                  <a:ext cx="996840" cy="99684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0800000">
                  <a:off x="4983840" y="374436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413600" y="2612880"/>
                <a:ext cx="1409760" cy="1418760"/>
                <a:chOff x="4413600" y="2612880"/>
                <a:chExt cx="1409760" cy="1418760"/>
              </a:xfrm>
            </p:grpSpPr>
            <p:sp>
              <p:nvSpPr>
                <p:cNvPr id="131" name=""/>
                <p:cNvSpPr/>
                <p:nvPr/>
              </p:nvSpPr>
              <p:spPr>
                <a:xfrm rot="18900000">
                  <a:off x="4619880" y="2819160"/>
                  <a:ext cx="996840" cy="9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0800000">
                  <a:off x="4983840" y="374436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4781880" y="2931120"/>
              <a:ext cx="668520" cy="779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b0000"/>
                </a:gs>
                <a:gs pos="50000">
                  <a:srgbClr val="800000"/>
                </a:gs>
                <a:gs pos="100000">
                  <a:srgbClr val="3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048520" y="2613960"/>
            <a:ext cx="1519560" cy="1752840"/>
            <a:chOff x="8048520" y="2613960"/>
            <a:chExt cx="1519560" cy="1752840"/>
          </a:xfrm>
        </p:grpSpPr>
        <p:sp>
          <p:nvSpPr>
            <p:cNvPr id="135" name=""/>
            <p:cNvSpPr/>
            <p:nvPr/>
          </p:nvSpPr>
          <p:spPr>
            <a:xfrm>
              <a:off x="8048520" y="3928680"/>
              <a:ext cx="1117440" cy="43812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158680" y="2613960"/>
              <a:ext cx="1409400" cy="1418760"/>
              <a:chOff x="8158680" y="2613960"/>
              <a:chExt cx="1409400" cy="14187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8158680" y="2613960"/>
                <a:ext cx="1409400" cy="1418760"/>
                <a:chOff x="8158680" y="2613960"/>
                <a:chExt cx="1409400" cy="1418760"/>
              </a:xfrm>
            </p:grpSpPr>
            <p:sp>
              <p:nvSpPr>
                <p:cNvPr id="138" name=""/>
                <p:cNvSpPr/>
                <p:nvPr/>
              </p:nvSpPr>
              <p:spPr>
                <a:xfrm rot="18900000">
                  <a:off x="8364600" y="2820600"/>
                  <a:ext cx="997200" cy="99612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0800000">
                  <a:off x="8728560" y="374544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8158680" y="2613960"/>
                <a:ext cx="1409400" cy="1418760"/>
                <a:chOff x="8158680" y="2613960"/>
                <a:chExt cx="1409400" cy="1418760"/>
              </a:xfrm>
            </p:grpSpPr>
            <p:sp>
              <p:nvSpPr>
                <p:cNvPr id="141" name=""/>
                <p:cNvSpPr/>
                <p:nvPr/>
              </p:nvSpPr>
              <p:spPr>
                <a:xfrm rot="18900000">
                  <a:off x="8364600" y="2820600"/>
                  <a:ext cx="997200" cy="996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0800000">
                  <a:off x="8728560" y="374544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8526960" y="2932920"/>
              <a:ext cx="668160" cy="7765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60017"/>
                </a:gs>
                <a:gs pos="50000">
                  <a:srgbClr val="990033"/>
                </a:gs>
                <a:gs pos="100000">
                  <a:srgbClr val="4600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75440" y="2612520"/>
            <a:ext cx="1519560" cy="1754280"/>
            <a:chOff x="6175440" y="2612520"/>
            <a:chExt cx="1519560" cy="1754280"/>
          </a:xfrm>
        </p:grpSpPr>
        <p:sp>
          <p:nvSpPr>
            <p:cNvPr id="145" name=""/>
            <p:cNvSpPr/>
            <p:nvPr/>
          </p:nvSpPr>
          <p:spPr>
            <a:xfrm>
              <a:off x="6175440" y="3928320"/>
              <a:ext cx="1117080" cy="43848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6284880" y="2612520"/>
              <a:ext cx="1410120" cy="1419480"/>
              <a:chOff x="6284880" y="2612520"/>
              <a:chExt cx="1410120" cy="14194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284880" y="2612520"/>
                <a:ext cx="1410120" cy="1419480"/>
                <a:chOff x="6284880" y="2612520"/>
                <a:chExt cx="1410120" cy="1419480"/>
              </a:xfrm>
            </p:grpSpPr>
            <p:sp>
              <p:nvSpPr>
                <p:cNvPr id="148" name=""/>
                <p:cNvSpPr/>
                <p:nvPr/>
              </p:nvSpPr>
              <p:spPr>
                <a:xfrm rot="18900000">
                  <a:off x="6491160" y="2819160"/>
                  <a:ext cx="997200" cy="99684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10800000">
                  <a:off x="6855480" y="374472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284880" y="2612520"/>
                <a:ext cx="1410120" cy="1419480"/>
                <a:chOff x="6284880" y="2612520"/>
                <a:chExt cx="1410120" cy="1419480"/>
              </a:xfrm>
            </p:grpSpPr>
            <p:sp>
              <p:nvSpPr>
                <p:cNvPr id="151" name=""/>
                <p:cNvSpPr/>
                <p:nvPr/>
              </p:nvSpPr>
              <p:spPr>
                <a:xfrm rot="18900000">
                  <a:off x="6491160" y="2819160"/>
                  <a:ext cx="997200" cy="9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10800000">
                  <a:off x="6855480" y="3744720"/>
                  <a:ext cx="150840" cy="287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6653520" y="2931120"/>
              <a:ext cx="668520" cy="7776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0520" y="4562280"/>
            <a:ext cx="1498320" cy="1730160"/>
            <a:chOff x="560520" y="4562280"/>
            <a:chExt cx="1498320" cy="1730160"/>
          </a:xfrm>
        </p:grpSpPr>
        <p:sp>
          <p:nvSpPr>
            <p:cNvPr id="155" name=""/>
            <p:cNvSpPr/>
            <p:nvPr/>
          </p:nvSpPr>
          <p:spPr>
            <a:xfrm>
              <a:off x="560520" y="5859720"/>
              <a:ext cx="1101240" cy="43272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68520" y="4562280"/>
              <a:ext cx="1390320" cy="1399680"/>
              <a:chOff x="668520" y="4562280"/>
              <a:chExt cx="1390320" cy="139968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668520" y="4562280"/>
                <a:ext cx="1390320" cy="1399680"/>
                <a:chOff x="668520" y="4562280"/>
                <a:chExt cx="1390320" cy="1399680"/>
              </a:xfrm>
            </p:grpSpPr>
            <p:sp>
              <p:nvSpPr>
                <p:cNvPr id="158" name=""/>
                <p:cNvSpPr/>
                <p:nvPr/>
              </p:nvSpPr>
              <p:spPr>
                <a:xfrm rot="18900000">
                  <a:off x="872280" y="4765680"/>
                  <a:ext cx="982440" cy="98352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0800000">
                  <a:off x="1231200" y="5679000"/>
                  <a:ext cx="149040" cy="282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68520" y="4562280"/>
                <a:ext cx="1390320" cy="1399680"/>
                <a:chOff x="668520" y="4562280"/>
                <a:chExt cx="1390320" cy="1399680"/>
              </a:xfrm>
            </p:grpSpPr>
            <p:sp>
              <p:nvSpPr>
                <p:cNvPr id="161" name=""/>
                <p:cNvSpPr/>
                <p:nvPr/>
              </p:nvSpPr>
              <p:spPr>
                <a:xfrm rot="18900000">
                  <a:off x="872280" y="4765680"/>
                  <a:ext cx="982440" cy="983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0800000">
                  <a:off x="1231200" y="5679000"/>
                  <a:ext cx="149040" cy="282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1032120" y="4876560"/>
              <a:ext cx="658440" cy="76824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32160" y="4562280"/>
            <a:ext cx="1498320" cy="1730160"/>
            <a:chOff x="2432160" y="4562280"/>
            <a:chExt cx="1498320" cy="1730160"/>
          </a:xfrm>
        </p:grpSpPr>
        <p:sp>
          <p:nvSpPr>
            <p:cNvPr id="165" name=""/>
            <p:cNvSpPr/>
            <p:nvPr/>
          </p:nvSpPr>
          <p:spPr>
            <a:xfrm>
              <a:off x="2432160" y="5859720"/>
              <a:ext cx="1101240" cy="43272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40160" y="4562280"/>
              <a:ext cx="1390320" cy="1399680"/>
              <a:chOff x="2540160" y="4562280"/>
              <a:chExt cx="1390320" cy="13996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2540160" y="4562280"/>
                <a:ext cx="1390320" cy="1399680"/>
                <a:chOff x="2540160" y="4562280"/>
                <a:chExt cx="1390320" cy="1399680"/>
              </a:xfrm>
            </p:grpSpPr>
            <p:sp>
              <p:nvSpPr>
                <p:cNvPr id="168" name=""/>
                <p:cNvSpPr/>
                <p:nvPr/>
              </p:nvSpPr>
              <p:spPr>
                <a:xfrm rot="18900000">
                  <a:off x="2743920" y="4765680"/>
                  <a:ext cx="982440" cy="98352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0800000">
                  <a:off x="3102840" y="5679000"/>
                  <a:ext cx="149040" cy="282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40160" y="4562280"/>
                <a:ext cx="1390320" cy="1399680"/>
                <a:chOff x="2540160" y="4562280"/>
                <a:chExt cx="1390320" cy="1399680"/>
              </a:xfrm>
            </p:grpSpPr>
            <p:sp>
              <p:nvSpPr>
                <p:cNvPr id="171" name=""/>
                <p:cNvSpPr/>
                <p:nvPr/>
              </p:nvSpPr>
              <p:spPr>
                <a:xfrm rot="18900000">
                  <a:off x="2743920" y="4765680"/>
                  <a:ext cx="982440" cy="983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0800000">
                  <a:off x="3102840" y="5679000"/>
                  <a:ext cx="149040" cy="282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2903400" y="5191200"/>
              <a:ext cx="388440" cy="4536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8400" y="4915080"/>
              <a:ext cx="388440" cy="4536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305240" y="4561920"/>
            <a:ext cx="1498320" cy="1730520"/>
            <a:chOff x="4305240" y="4561920"/>
            <a:chExt cx="1498320" cy="1730520"/>
          </a:xfrm>
        </p:grpSpPr>
        <p:sp>
          <p:nvSpPr>
            <p:cNvPr id="176" name=""/>
            <p:cNvSpPr/>
            <p:nvPr/>
          </p:nvSpPr>
          <p:spPr>
            <a:xfrm>
              <a:off x="4305240" y="5859720"/>
              <a:ext cx="1101240" cy="43272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413240" y="4561920"/>
              <a:ext cx="1390320" cy="1400040"/>
              <a:chOff x="4413240" y="4561920"/>
              <a:chExt cx="1390320" cy="14000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4413240" y="4561920"/>
                <a:ext cx="1390320" cy="1400040"/>
                <a:chOff x="4413240" y="4561920"/>
                <a:chExt cx="1390320" cy="1400040"/>
              </a:xfrm>
            </p:grpSpPr>
            <p:sp>
              <p:nvSpPr>
                <p:cNvPr id="179" name=""/>
                <p:cNvSpPr/>
                <p:nvPr/>
              </p:nvSpPr>
              <p:spPr>
                <a:xfrm rot="18900000">
                  <a:off x="4616640" y="4765320"/>
                  <a:ext cx="983160" cy="98316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0800000">
                  <a:off x="4975560" y="5678640"/>
                  <a:ext cx="149040" cy="283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13240" y="4561920"/>
                <a:ext cx="1390320" cy="1400040"/>
                <a:chOff x="4413240" y="4561920"/>
                <a:chExt cx="1390320" cy="1400040"/>
              </a:xfrm>
            </p:grpSpPr>
            <p:sp>
              <p:nvSpPr>
                <p:cNvPr id="182" name=""/>
                <p:cNvSpPr/>
                <p:nvPr/>
              </p:nvSpPr>
              <p:spPr>
                <a:xfrm rot="18900000">
                  <a:off x="4616640" y="4765320"/>
                  <a:ext cx="983160" cy="983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0800000">
                  <a:off x="4975560" y="5678640"/>
                  <a:ext cx="149040" cy="283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4894560" y="5268600"/>
              <a:ext cx="388080" cy="4536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4953960"/>
              <a:ext cx="388080" cy="4536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30360" y="4953960"/>
              <a:ext cx="388440" cy="4536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176880" y="4562280"/>
            <a:ext cx="1498680" cy="1730160"/>
            <a:chOff x="6176880" y="4562280"/>
            <a:chExt cx="1498680" cy="1730160"/>
          </a:xfrm>
        </p:grpSpPr>
        <p:sp>
          <p:nvSpPr>
            <p:cNvPr id="188" name=""/>
            <p:cNvSpPr/>
            <p:nvPr/>
          </p:nvSpPr>
          <p:spPr>
            <a:xfrm>
              <a:off x="6176880" y="5859720"/>
              <a:ext cx="1101600" cy="43272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285240" y="4562280"/>
              <a:ext cx="1390320" cy="1399680"/>
              <a:chOff x="6285240" y="4562280"/>
              <a:chExt cx="1390320" cy="13996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6285240" y="4562280"/>
                <a:ext cx="1390320" cy="1399680"/>
                <a:chOff x="6285240" y="4562280"/>
                <a:chExt cx="1390320" cy="1399680"/>
              </a:xfrm>
            </p:grpSpPr>
            <p:sp>
              <p:nvSpPr>
                <p:cNvPr id="191" name=""/>
                <p:cNvSpPr/>
                <p:nvPr/>
              </p:nvSpPr>
              <p:spPr>
                <a:xfrm rot="18900000">
                  <a:off x="6488640" y="4765320"/>
                  <a:ext cx="982800" cy="98316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6847560" y="5678640"/>
                  <a:ext cx="149040" cy="283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285240" y="4562280"/>
                <a:ext cx="1390320" cy="1399680"/>
                <a:chOff x="6285240" y="4562280"/>
                <a:chExt cx="1390320" cy="1399680"/>
              </a:xfrm>
            </p:grpSpPr>
            <p:sp>
              <p:nvSpPr>
                <p:cNvPr id="194" name=""/>
                <p:cNvSpPr/>
                <p:nvPr/>
              </p:nvSpPr>
              <p:spPr>
                <a:xfrm rot="18900000">
                  <a:off x="6488640" y="4765320"/>
                  <a:ext cx="982800" cy="983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0800000">
                  <a:off x="6847560" y="5678640"/>
                  <a:ext cx="149040" cy="283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"/>
            <p:cNvSpPr/>
            <p:nvPr/>
          </p:nvSpPr>
          <p:spPr>
            <a:xfrm>
              <a:off x="6648480" y="5230080"/>
              <a:ext cx="303480" cy="35496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40880" y="5228640"/>
              <a:ext cx="303840" cy="35496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48480" y="4955400"/>
              <a:ext cx="303480" cy="3546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40880" y="4953960"/>
              <a:ext cx="303840" cy="35496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048520" y="4562280"/>
            <a:ext cx="1498680" cy="1730160"/>
            <a:chOff x="8048520" y="4562280"/>
            <a:chExt cx="1498680" cy="1730160"/>
          </a:xfrm>
        </p:grpSpPr>
        <p:sp>
          <p:nvSpPr>
            <p:cNvPr id="201" name=""/>
            <p:cNvSpPr/>
            <p:nvPr/>
          </p:nvSpPr>
          <p:spPr>
            <a:xfrm>
              <a:off x="8048520" y="5859720"/>
              <a:ext cx="1101240" cy="432720"/>
            </a:xfrm>
            <a:prstGeom prst="cube">
              <a:avLst>
                <a:gd name="adj" fmla="val 54486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8156880" y="4562280"/>
              <a:ext cx="1390320" cy="1399680"/>
              <a:chOff x="8156880" y="4562280"/>
              <a:chExt cx="1390320" cy="139968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8156880" y="4562280"/>
                <a:ext cx="1390320" cy="1399680"/>
                <a:chOff x="8156880" y="4562280"/>
                <a:chExt cx="1390320" cy="1399680"/>
              </a:xfrm>
            </p:grpSpPr>
            <p:sp>
              <p:nvSpPr>
                <p:cNvPr id="204" name=""/>
                <p:cNvSpPr/>
                <p:nvPr/>
              </p:nvSpPr>
              <p:spPr>
                <a:xfrm rot="18900000">
                  <a:off x="8360280" y="4765320"/>
                  <a:ext cx="982800" cy="98316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0800000">
                  <a:off x="8719200" y="5678640"/>
                  <a:ext cx="149040" cy="283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8156880" y="4562280"/>
                <a:ext cx="1390320" cy="1399680"/>
                <a:chOff x="8156880" y="4562280"/>
                <a:chExt cx="1390320" cy="1399680"/>
              </a:xfrm>
            </p:grpSpPr>
            <p:sp>
              <p:nvSpPr>
                <p:cNvPr id="207" name=""/>
                <p:cNvSpPr/>
                <p:nvPr/>
              </p:nvSpPr>
              <p:spPr>
                <a:xfrm rot="18900000">
                  <a:off x="8360280" y="4765320"/>
                  <a:ext cx="982800" cy="983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0800000">
                  <a:off x="8719200" y="5678640"/>
                  <a:ext cx="149040" cy="283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8479800" y="5230080"/>
              <a:ext cx="235800" cy="27576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715600" y="5348160"/>
              <a:ext cx="235800" cy="27576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52840" y="5191200"/>
              <a:ext cx="235800" cy="27612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59000" y="4916520"/>
              <a:ext cx="235440" cy="27612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74000" y="4916520"/>
              <a:ext cx="235440" cy="27612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704880" y="1052640"/>
            <a:ext cx="964800" cy="1250640"/>
            <a:chOff x="704880" y="1052640"/>
            <a:chExt cx="964800" cy="1250640"/>
          </a:xfrm>
        </p:grpSpPr>
        <p:sp>
          <p:nvSpPr>
            <p:cNvPr id="215" name=""/>
            <p:cNvSpPr/>
            <p:nvPr/>
          </p:nvSpPr>
          <p:spPr>
            <a:xfrm>
              <a:off x="704880" y="1052640"/>
              <a:ext cx="964800" cy="1250640"/>
            </a:xfrm>
            <a:prstGeom prst="cube">
              <a:avLst>
                <a:gd name="adj" fmla="val 2966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4800" y="1334880"/>
              <a:ext cx="624600" cy="826200"/>
            </a:xfrm>
            <a:prstGeom prst="can">
              <a:avLst>
                <a:gd name="adj" fmla="val 24212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76160" y="2997360"/>
            <a:ext cx="964800" cy="1250280"/>
            <a:chOff x="776160" y="2997360"/>
            <a:chExt cx="964800" cy="1250280"/>
          </a:xfrm>
        </p:grpSpPr>
        <p:sp>
          <p:nvSpPr>
            <p:cNvPr id="218" name=""/>
            <p:cNvSpPr/>
            <p:nvPr/>
          </p:nvSpPr>
          <p:spPr>
            <a:xfrm>
              <a:off x="776160" y="2997360"/>
              <a:ext cx="964800" cy="1250280"/>
            </a:xfrm>
            <a:prstGeom prst="cube">
              <a:avLst>
                <a:gd name="adj" fmla="val 2966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46440" y="3279240"/>
              <a:ext cx="624240" cy="825840"/>
            </a:xfrm>
            <a:prstGeom prst="can">
              <a:avLst>
                <a:gd name="adj" fmla="val 25907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905600" y="3284640"/>
            <a:ext cx="1575000" cy="598320"/>
            <a:chOff x="7905600" y="3284640"/>
            <a:chExt cx="1575000" cy="598320"/>
          </a:xfrm>
        </p:grpSpPr>
        <p:sp>
          <p:nvSpPr>
            <p:cNvPr id="221" name=""/>
            <p:cNvSpPr/>
            <p:nvPr/>
          </p:nvSpPr>
          <p:spPr>
            <a:xfrm>
              <a:off x="7905600" y="3284640"/>
              <a:ext cx="1575000" cy="598320"/>
            </a:xfrm>
            <a:prstGeom prst="cube">
              <a:avLst>
                <a:gd name="adj" fmla="val 46722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6960" y="3447360"/>
              <a:ext cx="353160" cy="379800"/>
            </a:xfrm>
            <a:prstGeom prst="can">
              <a:avLst>
                <a:gd name="adj" fmla="val 24935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93760" y="3447360"/>
              <a:ext cx="353160" cy="379800"/>
            </a:xfrm>
            <a:prstGeom prst="can">
              <a:avLst>
                <a:gd name="adj" fmla="val 26699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01640" y="3447360"/>
              <a:ext cx="353160" cy="379800"/>
            </a:xfrm>
            <a:prstGeom prst="can">
              <a:avLst>
                <a:gd name="adj" fmla="val 24685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905600" y="1484280"/>
            <a:ext cx="1575000" cy="598680"/>
            <a:chOff x="7905600" y="1484280"/>
            <a:chExt cx="1575000" cy="598680"/>
          </a:xfrm>
        </p:grpSpPr>
        <p:sp>
          <p:nvSpPr>
            <p:cNvPr id="226" name=""/>
            <p:cNvSpPr/>
            <p:nvPr/>
          </p:nvSpPr>
          <p:spPr>
            <a:xfrm>
              <a:off x="7905600" y="1484280"/>
              <a:ext cx="1575000" cy="598680"/>
            </a:xfrm>
            <a:prstGeom prst="cube">
              <a:avLst>
                <a:gd name="adj" fmla="val 46722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87680" y="1647000"/>
              <a:ext cx="352080" cy="380160"/>
            </a:xfrm>
            <a:prstGeom prst="can">
              <a:avLst>
                <a:gd name="adj" fmla="val 29722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4480" y="1647000"/>
              <a:ext cx="352080" cy="380160"/>
            </a:xfrm>
            <a:prstGeom prst="can">
              <a:avLst>
                <a:gd name="adj" fmla="val 28212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802720" y="1647000"/>
              <a:ext cx="352080" cy="380160"/>
            </a:xfrm>
            <a:prstGeom prst="can">
              <a:avLst>
                <a:gd name="adj" fmla="val 29976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576520" y="1052640"/>
            <a:ext cx="964800" cy="1250640"/>
            <a:chOff x="2576520" y="1052640"/>
            <a:chExt cx="964800" cy="1250640"/>
          </a:xfrm>
        </p:grpSpPr>
        <p:sp>
          <p:nvSpPr>
            <p:cNvPr id="231" name=""/>
            <p:cNvSpPr/>
            <p:nvPr/>
          </p:nvSpPr>
          <p:spPr>
            <a:xfrm>
              <a:off x="2576520" y="1052640"/>
              <a:ext cx="964800" cy="1250640"/>
            </a:xfrm>
            <a:prstGeom prst="cube">
              <a:avLst>
                <a:gd name="adj" fmla="val 2966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6440" y="1618920"/>
              <a:ext cx="624600" cy="542160"/>
            </a:xfrm>
            <a:prstGeom prst="can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6440" y="1222560"/>
              <a:ext cx="624600" cy="542160"/>
            </a:xfrm>
            <a:prstGeom prst="can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76520" y="2997360"/>
            <a:ext cx="964800" cy="1250280"/>
            <a:chOff x="2576520" y="2997360"/>
            <a:chExt cx="964800" cy="1250280"/>
          </a:xfrm>
        </p:grpSpPr>
        <p:sp>
          <p:nvSpPr>
            <p:cNvPr id="235" name=""/>
            <p:cNvSpPr/>
            <p:nvPr/>
          </p:nvSpPr>
          <p:spPr>
            <a:xfrm>
              <a:off x="2576520" y="2997360"/>
              <a:ext cx="964800" cy="1250280"/>
            </a:xfrm>
            <a:prstGeom prst="cube">
              <a:avLst>
                <a:gd name="adj" fmla="val 2966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6080" y="3563640"/>
              <a:ext cx="624600" cy="54216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46080" y="3167280"/>
              <a:ext cx="624600" cy="54216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448160" y="1052640"/>
            <a:ext cx="964800" cy="1250640"/>
            <a:chOff x="4448160" y="1052640"/>
            <a:chExt cx="964800" cy="1250640"/>
          </a:xfrm>
        </p:grpSpPr>
        <p:sp>
          <p:nvSpPr>
            <p:cNvPr id="239" name=""/>
            <p:cNvSpPr/>
            <p:nvPr/>
          </p:nvSpPr>
          <p:spPr>
            <a:xfrm>
              <a:off x="4448160" y="1052640"/>
              <a:ext cx="964800" cy="1250640"/>
            </a:xfrm>
            <a:prstGeom prst="cube">
              <a:avLst>
                <a:gd name="adj" fmla="val 2966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18440" y="1789200"/>
              <a:ext cx="624600" cy="428400"/>
            </a:xfrm>
            <a:prstGeom prst="can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20240" y="1472760"/>
              <a:ext cx="624600" cy="428400"/>
            </a:xfrm>
            <a:prstGeom prst="can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20240" y="1164600"/>
              <a:ext cx="624600" cy="428400"/>
            </a:xfrm>
            <a:prstGeom prst="can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48160" y="2997360"/>
            <a:ext cx="964800" cy="1250280"/>
            <a:chOff x="4448160" y="2997360"/>
            <a:chExt cx="964800" cy="1250280"/>
          </a:xfrm>
        </p:grpSpPr>
        <p:sp>
          <p:nvSpPr>
            <p:cNvPr id="244" name=""/>
            <p:cNvSpPr/>
            <p:nvPr/>
          </p:nvSpPr>
          <p:spPr>
            <a:xfrm>
              <a:off x="4448160" y="2997360"/>
              <a:ext cx="964800" cy="1250280"/>
            </a:xfrm>
            <a:prstGeom prst="cube">
              <a:avLst>
                <a:gd name="adj" fmla="val 29666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18080" y="3733560"/>
              <a:ext cx="624600" cy="42804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19880" y="3417480"/>
              <a:ext cx="624600" cy="42804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19880" y="3109320"/>
              <a:ext cx="624600" cy="42804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032520" y="3284640"/>
            <a:ext cx="1574640" cy="598320"/>
            <a:chOff x="6032520" y="3284640"/>
            <a:chExt cx="1574640" cy="598320"/>
          </a:xfrm>
        </p:grpSpPr>
        <p:sp>
          <p:nvSpPr>
            <p:cNvPr id="249" name=""/>
            <p:cNvSpPr/>
            <p:nvPr/>
          </p:nvSpPr>
          <p:spPr>
            <a:xfrm>
              <a:off x="6032520" y="3284640"/>
              <a:ext cx="1574640" cy="598320"/>
            </a:xfrm>
            <a:prstGeom prst="cube">
              <a:avLst>
                <a:gd name="adj" fmla="val 46722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40520" y="3393360"/>
              <a:ext cx="570240" cy="43452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64760" y="3420360"/>
              <a:ext cx="570240" cy="43452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032520" y="1484280"/>
            <a:ext cx="1574640" cy="598680"/>
            <a:chOff x="6032520" y="1484280"/>
            <a:chExt cx="1574640" cy="598680"/>
          </a:xfrm>
        </p:grpSpPr>
        <p:sp>
          <p:nvSpPr>
            <p:cNvPr id="253" name=""/>
            <p:cNvSpPr/>
            <p:nvPr/>
          </p:nvSpPr>
          <p:spPr>
            <a:xfrm>
              <a:off x="6032520" y="1484280"/>
              <a:ext cx="1574640" cy="598680"/>
            </a:xfrm>
            <a:prstGeom prst="cube">
              <a:avLst>
                <a:gd name="adj" fmla="val 46722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40520" y="1565640"/>
              <a:ext cx="570600" cy="434880"/>
            </a:xfrm>
            <a:prstGeom prst="can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64760" y="1592640"/>
              <a:ext cx="570240" cy="434880"/>
            </a:xfrm>
            <a:prstGeom prst="can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76160" y="4941720"/>
            <a:ext cx="964800" cy="1250640"/>
            <a:chOff x="776160" y="4941720"/>
            <a:chExt cx="964800" cy="1250640"/>
          </a:xfrm>
        </p:grpSpPr>
        <p:sp>
          <p:nvSpPr>
            <p:cNvPr id="257" name=""/>
            <p:cNvSpPr/>
            <p:nvPr/>
          </p:nvSpPr>
          <p:spPr>
            <a:xfrm>
              <a:off x="776160" y="4941720"/>
              <a:ext cx="964800" cy="1250640"/>
            </a:xfrm>
            <a:prstGeom prst="cube">
              <a:avLst>
                <a:gd name="adj" fmla="val 29666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46440" y="5223960"/>
              <a:ext cx="624600" cy="826200"/>
            </a:xfrm>
            <a:prstGeom prst="can">
              <a:avLst>
                <a:gd name="adj" fmla="val 25907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905600" y="5229360"/>
            <a:ext cx="1575000" cy="598320"/>
            <a:chOff x="7905600" y="5229360"/>
            <a:chExt cx="1575000" cy="598320"/>
          </a:xfrm>
        </p:grpSpPr>
        <p:sp>
          <p:nvSpPr>
            <p:cNvPr id="260" name=""/>
            <p:cNvSpPr/>
            <p:nvPr/>
          </p:nvSpPr>
          <p:spPr>
            <a:xfrm>
              <a:off x="7905600" y="5229360"/>
              <a:ext cx="1575000" cy="598320"/>
            </a:xfrm>
            <a:prstGeom prst="cube">
              <a:avLst>
                <a:gd name="adj" fmla="val 46722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6960" y="5392080"/>
              <a:ext cx="353160" cy="379800"/>
            </a:xfrm>
            <a:prstGeom prst="can">
              <a:avLst>
                <a:gd name="adj" fmla="val 24935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93760" y="5392080"/>
              <a:ext cx="353160" cy="379800"/>
            </a:xfrm>
            <a:prstGeom prst="can">
              <a:avLst>
                <a:gd name="adj" fmla="val 26699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801640" y="5392080"/>
              <a:ext cx="353160" cy="379800"/>
            </a:xfrm>
            <a:prstGeom prst="can">
              <a:avLst>
                <a:gd name="adj" fmla="val 24685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576520" y="4941720"/>
            <a:ext cx="964800" cy="1250640"/>
            <a:chOff x="2576520" y="4941720"/>
            <a:chExt cx="964800" cy="1250640"/>
          </a:xfrm>
        </p:grpSpPr>
        <p:sp>
          <p:nvSpPr>
            <p:cNvPr id="265" name=""/>
            <p:cNvSpPr/>
            <p:nvPr/>
          </p:nvSpPr>
          <p:spPr>
            <a:xfrm>
              <a:off x="2576520" y="4941720"/>
              <a:ext cx="964800" cy="1250640"/>
            </a:xfrm>
            <a:prstGeom prst="cube">
              <a:avLst>
                <a:gd name="adj" fmla="val 29666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6800" y="5507640"/>
              <a:ext cx="624240" cy="54216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6800" y="5111640"/>
              <a:ext cx="624240" cy="54216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448160" y="4941720"/>
            <a:ext cx="964800" cy="1252440"/>
            <a:chOff x="4448160" y="4941720"/>
            <a:chExt cx="964800" cy="1252440"/>
          </a:xfrm>
        </p:grpSpPr>
        <p:sp>
          <p:nvSpPr>
            <p:cNvPr id="269" name=""/>
            <p:cNvSpPr/>
            <p:nvPr/>
          </p:nvSpPr>
          <p:spPr>
            <a:xfrm>
              <a:off x="4448160" y="4941720"/>
              <a:ext cx="964800" cy="1252440"/>
            </a:xfrm>
            <a:prstGeom prst="cube">
              <a:avLst>
                <a:gd name="adj" fmla="val 29666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7720" y="5679360"/>
              <a:ext cx="624600" cy="42876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0240" y="5362560"/>
              <a:ext cx="624600" cy="42876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20240" y="5053680"/>
              <a:ext cx="624600" cy="42876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032520" y="5229360"/>
            <a:ext cx="1574640" cy="598320"/>
            <a:chOff x="6032520" y="5229360"/>
            <a:chExt cx="1574640" cy="598320"/>
          </a:xfrm>
        </p:grpSpPr>
        <p:sp>
          <p:nvSpPr>
            <p:cNvPr id="274" name=""/>
            <p:cNvSpPr/>
            <p:nvPr/>
          </p:nvSpPr>
          <p:spPr>
            <a:xfrm>
              <a:off x="6032520" y="5229360"/>
              <a:ext cx="1574640" cy="598320"/>
            </a:xfrm>
            <a:prstGeom prst="cube">
              <a:avLst>
                <a:gd name="adj" fmla="val 46722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40520" y="5338440"/>
              <a:ext cx="570240" cy="43452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64760" y="5365080"/>
              <a:ext cx="570240" cy="434520"/>
            </a:xfrm>
            <a:prstGeom prst="can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515880" y="2924280"/>
            <a:ext cx="1412640" cy="1358280"/>
            <a:chOff x="515880" y="2924280"/>
            <a:chExt cx="1412640" cy="1358280"/>
          </a:xfrm>
        </p:grpSpPr>
        <p:sp>
          <p:nvSpPr>
            <p:cNvPr id="278" name=""/>
            <p:cNvSpPr/>
            <p:nvPr/>
          </p:nvSpPr>
          <p:spPr>
            <a:xfrm>
              <a:off x="515880" y="2924280"/>
              <a:ext cx="1412640" cy="135828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5880" y="2924280"/>
              <a:ext cx="1412640" cy="135828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387520" y="2933640"/>
            <a:ext cx="1412640" cy="1358640"/>
            <a:chOff x="2387520" y="2933640"/>
            <a:chExt cx="1412640" cy="1358640"/>
          </a:xfrm>
        </p:grpSpPr>
        <p:sp>
          <p:nvSpPr>
            <p:cNvPr id="281" name=""/>
            <p:cNvSpPr/>
            <p:nvPr/>
          </p:nvSpPr>
          <p:spPr>
            <a:xfrm>
              <a:off x="2387520" y="2933640"/>
              <a:ext cx="1412640" cy="135864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87520" y="2933640"/>
              <a:ext cx="1412640" cy="135864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260960" y="2933640"/>
            <a:ext cx="1412280" cy="1358640"/>
            <a:chOff x="4260960" y="2933640"/>
            <a:chExt cx="1412280" cy="1358640"/>
          </a:xfrm>
        </p:grpSpPr>
        <p:sp>
          <p:nvSpPr>
            <p:cNvPr id="284" name=""/>
            <p:cNvSpPr/>
            <p:nvPr/>
          </p:nvSpPr>
          <p:spPr>
            <a:xfrm>
              <a:off x="4260960" y="2933640"/>
              <a:ext cx="1412280" cy="135864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0960" y="2933640"/>
              <a:ext cx="1412280" cy="135864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105600" y="2933640"/>
            <a:ext cx="1412280" cy="1358640"/>
            <a:chOff x="6105600" y="2933640"/>
            <a:chExt cx="1412280" cy="1358640"/>
          </a:xfrm>
        </p:grpSpPr>
        <p:sp>
          <p:nvSpPr>
            <p:cNvPr id="287" name=""/>
            <p:cNvSpPr/>
            <p:nvPr/>
          </p:nvSpPr>
          <p:spPr>
            <a:xfrm>
              <a:off x="6105600" y="2933640"/>
              <a:ext cx="1412280" cy="135864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05600" y="2933640"/>
              <a:ext cx="1412280" cy="135864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004240" y="2933640"/>
            <a:ext cx="1412280" cy="1358640"/>
            <a:chOff x="8004240" y="2933640"/>
            <a:chExt cx="1412280" cy="1358640"/>
          </a:xfrm>
        </p:grpSpPr>
        <p:sp>
          <p:nvSpPr>
            <p:cNvPr id="290" name=""/>
            <p:cNvSpPr/>
            <p:nvPr/>
          </p:nvSpPr>
          <p:spPr>
            <a:xfrm>
              <a:off x="8004240" y="2933640"/>
              <a:ext cx="1412280" cy="135864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4240" y="2933640"/>
              <a:ext cx="1412280" cy="135864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88880" y="4878360"/>
            <a:ext cx="1412640" cy="1358640"/>
            <a:chOff x="488880" y="4878360"/>
            <a:chExt cx="1412640" cy="1358640"/>
          </a:xfrm>
        </p:grpSpPr>
        <p:sp>
          <p:nvSpPr>
            <p:cNvPr id="293" name=""/>
            <p:cNvSpPr/>
            <p:nvPr/>
          </p:nvSpPr>
          <p:spPr>
            <a:xfrm>
              <a:off x="488880" y="4878360"/>
              <a:ext cx="1412640" cy="135864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8880" y="4878360"/>
              <a:ext cx="1412640" cy="135864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360520" y="4878360"/>
            <a:ext cx="1412640" cy="1358640"/>
            <a:chOff x="2360520" y="4878360"/>
            <a:chExt cx="1412640" cy="1358640"/>
          </a:xfrm>
        </p:grpSpPr>
        <p:sp>
          <p:nvSpPr>
            <p:cNvPr id="296" name=""/>
            <p:cNvSpPr/>
            <p:nvPr/>
          </p:nvSpPr>
          <p:spPr>
            <a:xfrm>
              <a:off x="2360520" y="4878360"/>
              <a:ext cx="1412640" cy="135864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0520" y="4878360"/>
              <a:ext cx="1412640" cy="135864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232160" y="4878360"/>
            <a:ext cx="1412640" cy="1358640"/>
            <a:chOff x="4232160" y="4878360"/>
            <a:chExt cx="1412640" cy="1358640"/>
          </a:xfrm>
        </p:grpSpPr>
        <p:sp>
          <p:nvSpPr>
            <p:cNvPr id="299" name=""/>
            <p:cNvSpPr/>
            <p:nvPr/>
          </p:nvSpPr>
          <p:spPr>
            <a:xfrm>
              <a:off x="4232160" y="4878360"/>
              <a:ext cx="1412640" cy="135864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2160" y="4878360"/>
              <a:ext cx="1412640" cy="135864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105600" y="4878360"/>
            <a:ext cx="1412280" cy="1358640"/>
            <a:chOff x="6105600" y="4878360"/>
            <a:chExt cx="1412280" cy="1358640"/>
          </a:xfrm>
        </p:grpSpPr>
        <p:sp>
          <p:nvSpPr>
            <p:cNvPr id="302" name=""/>
            <p:cNvSpPr/>
            <p:nvPr/>
          </p:nvSpPr>
          <p:spPr>
            <a:xfrm>
              <a:off x="6105600" y="4878360"/>
              <a:ext cx="1412280" cy="135864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05600" y="4878360"/>
              <a:ext cx="1412280" cy="135864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8004240" y="4878360"/>
            <a:ext cx="1412280" cy="1358640"/>
            <a:chOff x="8004240" y="4878360"/>
            <a:chExt cx="1412280" cy="1358640"/>
          </a:xfrm>
        </p:grpSpPr>
        <p:sp>
          <p:nvSpPr>
            <p:cNvPr id="305" name=""/>
            <p:cNvSpPr/>
            <p:nvPr/>
          </p:nvSpPr>
          <p:spPr>
            <a:xfrm>
              <a:off x="8004240" y="4878360"/>
              <a:ext cx="1412280" cy="135864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4240" y="4878360"/>
              <a:ext cx="1412280" cy="135864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60520" y="981000"/>
            <a:ext cx="1412280" cy="1359720"/>
            <a:chOff x="560520" y="981000"/>
            <a:chExt cx="1412280" cy="1359720"/>
          </a:xfrm>
        </p:grpSpPr>
        <p:sp>
          <p:nvSpPr>
            <p:cNvPr id="308" name=""/>
            <p:cNvSpPr/>
            <p:nvPr/>
          </p:nvSpPr>
          <p:spPr>
            <a:xfrm>
              <a:off x="560520" y="981000"/>
              <a:ext cx="1412280" cy="135792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0520" y="982440"/>
              <a:ext cx="1412280" cy="135828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360520" y="981000"/>
            <a:ext cx="1412640" cy="1359720"/>
            <a:chOff x="2360520" y="981000"/>
            <a:chExt cx="1412640" cy="1359720"/>
          </a:xfrm>
        </p:grpSpPr>
        <p:sp>
          <p:nvSpPr>
            <p:cNvPr id="311" name=""/>
            <p:cNvSpPr/>
            <p:nvPr/>
          </p:nvSpPr>
          <p:spPr>
            <a:xfrm>
              <a:off x="2360520" y="981000"/>
              <a:ext cx="1412640" cy="135792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60520" y="982440"/>
              <a:ext cx="1412640" cy="135828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260960" y="988920"/>
            <a:ext cx="1412280" cy="1359720"/>
            <a:chOff x="4260960" y="988920"/>
            <a:chExt cx="1412280" cy="1359720"/>
          </a:xfrm>
        </p:grpSpPr>
        <p:sp>
          <p:nvSpPr>
            <p:cNvPr id="314" name=""/>
            <p:cNvSpPr/>
            <p:nvPr/>
          </p:nvSpPr>
          <p:spPr>
            <a:xfrm>
              <a:off x="4260960" y="988920"/>
              <a:ext cx="1412280" cy="135792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0960" y="990360"/>
              <a:ext cx="1412280" cy="135828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105600" y="981000"/>
            <a:ext cx="1412280" cy="1359720"/>
            <a:chOff x="6105600" y="981000"/>
            <a:chExt cx="1412280" cy="1359720"/>
          </a:xfrm>
        </p:grpSpPr>
        <p:sp>
          <p:nvSpPr>
            <p:cNvPr id="317" name=""/>
            <p:cNvSpPr/>
            <p:nvPr/>
          </p:nvSpPr>
          <p:spPr>
            <a:xfrm>
              <a:off x="6105600" y="981000"/>
              <a:ext cx="1412280" cy="135792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5600" y="982440"/>
              <a:ext cx="1412280" cy="135828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977240" y="981000"/>
            <a:ext cx="1412640" cy="1360080"/>
            <a:chOff x="7977240" y="981000"/>
            <a:chExt cx="1412640" cy="1360080"/>
          </a:xfrm>
        </p:grpSpPr>
        <p:sp>
          <p:nvSpPr>
            <p:cNvPr id="320" name=""/>
            <p:cNvSpPr/>
            <p:nvPr/>
          </p:nvSpPr>
          <p:spPr>
            <a:xfrm>
              <a:off x="7977240" y="981000"/>
              <a:ext cx="1412640" cy="1358280"/>
            </a:xfrm>
            <a:prstGeom prst="can">
              <a:avLst>
                <a:gd name="adj" fmla="val 37092"/>
              </a:avLst>
            </a:prstGeom>
            <a:solidFill>
              <a:srgbClr val="ffffff"/>
            </a:solidFill>
            <a:ln w="1015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77240" y="983160"/>
              <a:ext cx="1412640" cy="1357920"/>
            </a:xfrm>
            <a:prstGeom prst="can">
              <a:avLst>
                <a:gd name="adj" fmla="val 37092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560520" y="907920"/>
            <a:ext cx="1395360" cy="1523880"/>
            <a:chOff x="560520" y="907920"/>
            <a:chExt cx="1395360" cy="1523880"/>
          </a:xfrm>
        </p:grpSpPr>
        <p:sp>
          <p:nvSpPr>
            <p:cNvPr id="323" name=""/>
            <p:cNvSpPr/>
            <p:nvPr/>
          </p:nvSpPr>
          <p:spPr>
            <a:xfrm>
              <a:off x="560520" y="10890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1600" y="907920"/>
              <a:ext cx="107928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360520" y="907920"/>
            <a:ext cx="1395360" cy="1517760"/>
            <a:chOff x="2360520" y="907920"/>
            <a:chExt cx="1395360" cy="1517760"/>
          </a:xfrm>
        </p:grpSpPr>
        <p:sp>
          <p:nvSpPr>
            <p:cNvPr id="326" name=""/>
            <p:cNvSpPr/>
            <p:nvPr/>
          </p:nvSpPr>
          <p:spPr>
            <a:xfrm>
              <a:off x="2360520" y="108252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2f00"/>
                </a:gs>
                <a:gs pos="50000">
                  <a:srgbClr val="006600"/>
                </a:gs>
                <a:gs pos="100000">
                  <a:srgbClr val="00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96960" y="907920"/>
              <a:ext cx="107928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977240" y="907920"/>
            <a:ext cx="1395360" cy="1517760"/>
            <a:chOff x="7977240" y="907920"/>
            <a:chExt cx="1395360" cy="1517760"/>
          </a:xfrm>
        </p:grpSpPr>
        <p:sp>
          <p:nvSpPr>
            <p:cNvPr id="329" name=""/>
            <p:cNvSpPr/>
            <p:nvPr/>
          </p:nvSpPr>
          <p:spPr>
            <a:xfrm>
              <a:off x="7977240" y="108252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60017"/>
                </a:gs>
                <a:gs pos="50000">
                  <a:srgbClr val="990033"/>
                </a:gs>
                <a:gs pos="100000">
                  <a:srgbClr val="4600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57960" y="907920"/>
              <a:ext cx="107928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232160" y="907920"/>
            <a:ext cx="1395360" cy="1523880"/>
            <a:chOff x="4232160" y="907920"/>
            <a:chExt cx="1395360" cy="1523880"/>
          </a:xfrm>
        </p:grpSpPr>
        <p:sp>
          <p:nvSpPr>
            <p:cNvPr id="332" name=""/>
            <p:cNvSpPr/>
            <p:nvPr/>
          </p:nvSpPr>
          <p:spPr>
            <a:xfrm>
              <a:off x="4232160" y="10890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b0000"/>
                </a:gs>
                <a:gs pos="50000">
                  <a:srgbClr val="800000"/>
                </a:gs>
                <a:gs pos="100000">
                  <a:srgbClr val="3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12880" y="907920"/>
              <a:ext cx="107928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105600" y="907920"/>
            <a:ext cx="1395360" cy="1517760"/>
            <a:chOff x="6105600" y="907920"/>
            <a:chExt cx="1395360" cy="1517760"/>
          </a:xfrm>
        </p:grpSpPr>
        <p:sp>
          <p:nvSpPr>
            <p:cNvPr id="335" name=""/>
            <p:cNvSpPr/>
            <p:nvPr/>
          </p:nvSpPr>
          <p:spPr>
            <a:xfrm>
              <a:off x="6105600" y="108252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42040" y="907920"/>
              <a:ext cx="107964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88880" y="2781360"/>
            <a:ext cx="1395360" cy="1574280"/>
            <a:chOff x="488880" y="2781360"/>
            <a:chExt cx="1395360" cy="1574280"/>
          </a:xfrm>
        </p:grpSpPr>
        <p:sp>
          <p:nvSpPr>
            <p:cNvPr id="338" name=""/>
            <p:cNvSpPr/>
            <p:nvPr/>
          </p:nvSpPr>
          <p:spPr>
            <a:xfrm>
              <a:off x="488880" y="301284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9600" y="2781360"/>
              <a:ext cx="1079280" cy="130464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360520" y="2781360"/>
            <a:ext cx="1395360" cy="1568520"/>
            <a:chOff x="2360520" y="2781360"/>
            <a:chExt cx="1395360" cy="1568520"/>
          </a:xfrm>
        </p:grpSpPr>
        <p:sp>
          <p:nvSpPr>
            <p:cNvPr id="341" name=""/>
            <p:cNvSpPr/>
            <p:nvPr/>
          </p:nvSpPr>
          <p:spPr>
            <a:xfrm>
              <a:off x="2360520" y="300708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174617"/>
                </a:gs>
                <a:gs pos="50000">
                  <a:srgbClr val="339933"/>
                </a:gs>
                <a:gs pos="100000">
                  <a:srgbClr val="1746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96960" y="2781360"/>
              <a:ext cx="107964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977240" y="2781360"/>
            <a:ext cx="1395360" cy="1568520"/>
            <a:chOff x="7977240" y="2781360"/>
            <a:chExt cx="1395360" cy="1568520"/>
          </a:xfrm>
        </p:grpSpPr>
        <p:sp>
          <p:nvSpPr>
            <p:cNvPr id="344" name=""/>
            <p:cNvSpPr/>
            <p:nvPr/>
          </p:nvSpPr>
          <p:spPr>
            <a:xfrm>
              <a:off x="7977240" y="300708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51746"/>
                </a:gs>
                <a:gs pos="50000">
                  <a:srgbClr val="ff3399"/>
                </a:gs>
                <a:gs pos="100000">
                  <a:srgbClr val="75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57960" y="2781360"/>
              <a:ext cx="107964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232160" y="2781360"/>
            <a:ext cx="1395360" cy="1574280"/>
            <a:chOff x="4232160" y="2781360"/>
            <a:chExt cx="1395360" cy="1574280"/>
          </a:xfrm>
        </p:grpSpPr>
        <p:sp>
          <p:nvSpPr>
            <p:cNvPr id="347" name=""/>
            <p:cNvSpPr/>
            <p:nvPr/>
          </p:nvSpPr>
          <p:spPr>
            <a:xfrm>
              <a:off x="4232160" y="301284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13240" y="2781360"/>
              <a:ext cx="1079280" cy="130464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105600" y="2781360"/>
            <a:ext cx="1395360" cy="1568520"/>
            <a:chOff x="6105600" y="2781360"/>
            <a:chExt cx="1395360" cy="1568520"/>
          </a:xfrm>
        </p:grpSpPr>
        <p:sp>
          <p:nvSpPr>
            <p:cNvPr id="350" name=""/>
            <p:cNvSpPr/>
            <p:nvPr/>
          </p:nvSpPr>
          <p:spPr>
            <a:xfrm>
              <a:off x="6105600" y="300708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42040" y="2781360"/>
              <a:ext cx="107964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88880" y="4797360"/>
            <a:ext cx="1395360" cy="1524240"/>
            <a:chOff x="488880" y="4797360"/>
            <a:chExt cx="1395360" cy="1524240"/>
          </a:xfrm>
        </p:grpSpPr>
        <p:sp>
          <p:nvSpPr>
            <p:cNvPr id="353" name=""/>
            <p:cNvSpPr/>
            <p:nvPr/>
          </p:nvSpPr>
          <p:spPr>
            <a:xfrm>
              <a:off x="488880" y="497844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8160" y="4797360"/>
              <a:ext cx="107892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360520" y="4797360"/>
            <a:ext cx="1395360" cy="1517760"/>
            <a:chOff x="2360520" y="4797360"/>
            <a:chExt cx="1395360" cy="1517760"/>
          </a:xfrm>
        </p:grpSpPr>
        <p:sp>
          <p:nvSpPr>
            <p:cNvPr id="356" name=""/>
            <p:cNvSpPr/>
            <p:nvPr/>
          </p:nvSpPr>
          <p:spPr>
            <a:xfrm>
              <a:off x="2360520" y="497196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9933"/>
                </a:gs>
                <a:gs pos="50000">
                  <a:srgbClr val="fefefe"/>
                </a:gs>
                <a:gs pos="100000">
                  <a:srgbClr val="33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520" y="4797360"/>
              <a:ext cx="107928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977240" y="4797360"/>
            <a:ext cx="1395360" cy="1517760"/>
            <a:chOff x="7977240" y="4797360"/>
            <a:chExt cx="1395360" cy="1517760"/>
          </a:xfrm>
        </p:grpSpPr>
        <p:sp>
          <p:nvSpPr>
            <p:cNvPr id="359" name=""/>
            <p:cNvSpPr/>
            <p:nvPr/>
          </p:nvSpPr>
          <p:spPr>
            <a:xfrm>
              <a:off x="7977240" y="497196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50000">
                  <a:srgbClr val="fefefe"/>
                </a:gs>
                <a:gs pos="100000">
                  <a:srgbClr val="ff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56520" y="4797360"/>
              <a:ext cx="107964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232160" y="4797360"/>
            <a:ext cx="1395360" cy="1524240"/>
            <a:chOff x="4232160" y="4797360"/>
            <a:chExt cx="1395360" cy="1524240"/>
          </a:xfrm>
        </p:grpSpPr>
        <p:sp>
          <p:nvSpPr>
            <p:cNvPr id="362" name=""/>
            <p:cNvSpPr/>
            <p:nvPr/>
          </p:nvSpPr>
          <p:spPr>
            <a:xfrm>
              <a:off x="4232160" y="497844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fefe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11440" y="4797360"/>
              <a:ext cx="107964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105600" y="4797360"/>
            <a:ext cx="1395360" cy="1517760"/>
            <a:chOff x="6105600" y="4797360"/>
            <a:chExt cx="1395360" cy="1517760"/>
          </a:xfrm>
        </p:grpSpPr>
        <p:sp>
          <p:nvSpPr>
            <p:cNvPr id="365" name=""/>
            <p:cNvSpPr/>
            <p:nvPr/>
          </p:nvSpPr>
          <p:spPr>
            <a:xfrm>
              <a:off x="6105600" y="497196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0600" y="4797360"/>
              <a:ext cx="1079640" cy="1305000"/>
            </a:xfrm>
            <a:prstGeom prst="foldedCorner">
              <a:avLst>
                <a:gd name="adj" fmla="val 20134"/>
              </a:avLst>
            </a:prstGeom>
            <a:solidFill>
              <a:srgbClr val="ffffff">
                <a:alpha val="60000"/>
              </a:srgbClr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名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年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性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488880" y="981000"/>
            <a:ext cx="1395360" cy="1342800"/>
            <a:chOff x="488880" y="981000"/>
            <a:chExt cx="1395360" cy="1342800"/>
          </a:xfrm>
        </p:grpSpPr>
        <p:sp>
          <p:nvSpPr>
            <p:cNvPr id="368" name=""/>
            <p:cNvSpPr/>
            <p:nvPr/>
          </p:nvSpPr>
          <p:spPr>
            <a:xfrm>
              <a:off x="488880" y="98100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333333"/>
            </a:solidFill>
            <a:ln w="63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8880" y="9810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405160" y="981000"/>
            <a:ext cx="1395360" cy="1343160"/>
            <a:chOff x="2405160" y="981000"/>
            <a:chExt cx="1395360" cy="1343160"/>
          </a:xfrm>
        </p:grpSpPr>
        <p:sp>
          <p:nvSpPr>
            <p:cNvPr id="371" name=""/>
            <p:cNvSpPr/>
            <p:nvPr/>
          </p:nvSpPr>
          <p:spPr>
            <a:xfrm>
              <a:off x="2405160" y="981000"/>
              <a:ext cx="1395360" cy="1343160"/>
            </a:xfrm>
            <a:prstGeom prst="can">
              <a:avLst>
                <a:gd name="adj" fmla="val 50000"/>
              </a:avLst>
            </a:prstGeom>
            <a:solidFill>
              <a:srgbClr val="333333"/>
            </a:solidFill>
            <a:ln w="63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05160" y="98100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9933"/>
                </a:gs>
                <a:gs pos="50000">
                  <a:srgbClr val="fefefe"/>
                </a:gs>
                <a:gs pos="100000">
                  <a:srgbClr val="33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232160" y="981000"/>
            <a:ext cx="1395360" cy="1342800"/>
            <a:chOff x="4232160" y="981000"/>
            <a:chExt cx="1395360" cy="1342800"/>
          </a:xfrm>
        </p:grpSpPr>
        <p:sp>
          <p:nvSpPr>
            <p:cNvPr id="374" name=""/>
            <p:cNvSpPr/>
            <p:nvPr/>
          </p:nvSpPr>
          <p:spPr>
            <a:xfrm>
              <a:off x="4232160" y="98100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333333"/>
            </a:solidFill>
            <a:ln w="63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32160" y="9810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fefe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105600" y="981000"/>
            <a:ext cx="1395360" cy="1343160"/>
            <a:chOff x="6105600" y="981000"/>
            <a:chExt cx="1395360" cy="1343160"/>
          </a:xfrm>
        </p:grpSpPr>
        <p:sp>
          <p:nvSpPr>
            <p:cNvPr id="377" name=""/>
            <p:cNvSpPr/>
            <p:nvPr/>
          </p:nvSpPr>
          <p:spPr>
            <a:xfrm>
              <a:off x="6105600" y="981000"/>
              <a:ext cx="1395360" cy="1343160"/>
            </a:xfrm>
            <a:prstGeom prst="can">
              <a:avLst>
                <a:gd name="adj" fmla="val 50000"/>
              </a:avLst>
            </a:prstGeom>
            <a:solidFill>
              <a:srgbClr val="333333"/>
            </a:solidFill>
            <a:ln w="63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05600" y="98100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021520" y="981000"/>
            <a:ext cx="1395360" cy="1343160"/>
            <a:chOff x="8021520" y="981000"/>
            <a:chExt cx="1395360" cy="1343160"/>
          </a:xfrm>
        </p:grpSpPr>
        <p:sp>
          <p:nvSpPr>
            <p:cNvPr id="380" name=""/>
            <p:cNvSpPr/>
            <p:nvPr/>
          </p:nvSpPr>
          <p:spPr>
            <a:xfrm>
              <a:off x="8021520" y="981000"/>
              <a:ext cx="1395360" cy="1343160"/>
            </a:xfrm>
            <a:prstGeom prst="can">
              <a:avLst>
                <a:gd name="adj" fmla="val 50000"/>
              </a:avLst>
            </a:prstGeom>
            <a:solidFill>
              <a:srgbClr val="333333"/>
            </a:solidFill>
            <a:ln w="63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21520" y="98100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50000">
                  <a:srgbClr val="fefefe"/>
                </a:gs>
                <a:gs pos="100000">
                  <a:srgbClr val="ff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88880" y="2878200"/>
            <a:ext cx="1395360" cy="1342800"/>
            <a:chOff x="488880" y="2878200"/>
            <a:chExt cx="1395360" cy="1342800"/>
          </a:xfrm>
        </p:grpSpPr>
        <p:sp>
          <p:nvSpPr>
            <p:cNvPr id="383" name=""/>
            <p:cNvSpPr/>
            <p:nvPr/>
          </p:nvSpPr>
          <p:spPr>
            <a:xfrm>
              <a:off x="488880" y="287820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808080"/>
            </a:solidFill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8880" y="28782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fefefe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360520" y="2878200"/>
            <a:ext cx="1395360" cy="1342800"/>
            <a:chOff x="2360520" y="2878200"/>
            <a:chExt cx="1395360" cy="1342800"/>
          </a:xfrm>
        </p:grpSpPr>
        <p:sp>
          <p:nvSpPr>
            <p:cNvPr id="386" name=""/>
            <p:cNvSpPr/>
            <p:nvPr/>
          </p:nvSpPr>
          <p:spPr>
            <a:xfrm>
              <a:off x="2360520" y="287820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808080"/>
            </a:solidFill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60520" y="28782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cc66"/>
                </a:gs>
                <a:gs pos="50000">
                  <a:srgbClr val="fefefe"/>
                </a:gs>
                <a:gs pos="100000">
                  <a:srgbClr val="00c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32160" y="2878200"/>
            <a:ext cx="1395360" cy="1342800"/>
            <a:chOff x="4232160" y="2878200"/>
            <a:chExt cx="1395360" cy="1342800"/>
          </a:xfrm>
        </p:grpSpPr>
        <p:sp>
          <p:nvSpPr>
            <p:cNvPr id="389" name=""/>
            <p:cNvSpPr/>
            <p:nvPr/>
          </p:nvSpPr>
          <p:spPr>
            <a:xfrm>
              <a:off x="4232160" y="287820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808080"/>
            </a:solidFill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32160" y="28782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efefe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149880" y="2878200"/>
            <a:ext cx="1395360" cy="1342800"/>
            <a:chOff x="6149880" y="2878200"/>
            <a:chExt cx="1395360" cy="1342800"/>
          </a:xfrm>
        </p:grpSpPr>
        <p:sp>
          <p:nvSpPr>
            <p:cNvPr id="392" name=""/>
            <p:cNvSpPr/>
            <p:nvPr/>
          </p:nvSpPr>
          <p:spPr>
            <a:xfrm>
              <a:off x="6149880" y="287820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808080"/>
            </a:solidFill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49880" y="28782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7977240" y="2876400"/>
            <a:ext cx="1395360" cy="1343160"/>
            <a:chOff x="7977240" y="2876400"/>
            <a:chExt cx="1395360" cy="1343160"/>
          </a:xfrm>
        </p:grpSpPr>
        <p:sp>
          <p:nvSpPr>
            <p:cNvPr id="395" name=""/>
            <p:cNvSpPr/>
            <p:nvPr/>
          </p:nvSpPr>
          <p:spPr>
            <a:xfrm>
              <a:off x="7977240" y="2876400"/>
              <a:ext cx="1395360" cy="1343160"/>
            </a:xfrm>
            <a:prstGeom prst="can">
              <a:avLst>
                <a:gd name="adj" fmla="val 50000"/>
              </a:avLst>
            </a:prstGeom>
            <a:solidFill>
              <a:srgbClr val="808080"/>
            </a:solidFill>
            <a:ln w="6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77240" y="287640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cc"/>
                </a:gs>
                <a:gs pos="50000">
                  <a:srgbClr val="fefefe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33520" y="4894200"/>
            <a:ext cx="1395360" cy="1342800"/>
            <a:chOff x="533520" y="4894200"/>
            <a:chExt cx="1395360" cy="1342800"/>
          </a:xfrm>
        </p:grpSpPr>
        <p:sp>
          <p:nvSpPr>
            <p:cNvPr id="398" name=""/>
            <p:cNvSpPr/>
            <p:nvPr/>
          </p:nvSpPr>
          <p:spPr>
            <a:xfrm>
              <a:off x="533520" y="489420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c0c0c0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48942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360520" y="4892760"/>
            <a:ext cx="1395360" cy="1342800"/>
            <a:chOff x="2360520" y="4892760"/>
            <a:chExt cx="1395360" cy="1342800"/>
          </a:xfrm>
        </p:grpSpPr>
        <p:sp>
          <p:nvSpPr>
            <p:cNvPr id="401" name=""/>
            <p:cNvSpPr/>
            <p:nvPr/>
          </p:nvSpPr>
          <p:spPr>
            <a:xfrm>
              <a:off x="2360520" y="489276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c0c0c0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60520" y="489276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99ff66"/>
                </a:gs>
                <a:gs pos="50000">
                  <a:srgbClr val="fefefe"/>
                </a:gs>
                <a:gs pos="100000">
                  <a:srgbClr val="99ff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232160" y="4894200"/>
            <a:ext cx="1395360" cy="1342800"/>
            <a:chOff x="4232160" y="4894200"/>
            <a:chExt cx="1395360" cy="1342800"/>
          </a:xfrm>
        </p:grpSpPr>
        <p:sp>
          <p:nvSpPr>
            <p:cNvPr id="404" name=""/>
            <p:cNvSpPr/>
            <p:nvPr/>
          </p:nvSpPr>
          <p:spPr>
            <a:xfrm>
              <a:off x="4232160" y="489420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c0c0c0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32160" y="489420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105600" y="4892760"/>
            <a:ext cx="1395360" cy="1342800"/>
            <a:chOff x="6105600" y="4892760"/>
            <a:chExt cx="1395360" cy="1342800"/>
          </a:xfrm>
        </p:grpSpPr>
        <p:sp>
          <p:nvSpPr>
            <p:cNvPr id="407" name=""/>
            <p:cNvSpPr/>
            <p:nvPr/>
          </p:nvSpPr>
          <p:spPr>
            <a:xfrm>
              <a:off x="6105600" y="4892760"/>
              <a:ext cx="1395360" cy="1342800"/>
            </a:xfrm>
            <a:prstGeom prst="can">
              <a:avLst>
                <a:gd name="adj" fmla="val 50000"/>
              </a:avLst>
            </a:prstGeom>
            <a:solidFill>
              <a:srgbClr val="c0c0c0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05600" y="4892760"/>
              <a:ext cx="1395360" cy="13428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efefe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977240" y="4894200"/>
            <a:ext cx="1395360" cy="1343160"/>
            <a:chOff x="7977240" y="4894200"/>
            <a:chExt cx="1395360" cy="1343160"/>
          </a:xfrm>
        </p:grpSpPr>
        <p:sp>
          <p:nvSpPr>
            <p:cNvPr id="410" name=""/>
            <p:cNvSpPr/>
            <p:nvPr/>
          </p:nvSpPr>
          <p:spPr>
            <a:xfrm>
              <a:off x="7977240" y="4894200"/>
              <a:ext cx="1395360" cy="1343160"/>
            </a:xfrm>
            <a:prstGeom prst="can">
              <a:avLst>
                <a:gd name="adj" fmla="val 50000"/>
              </a:avLst>
            </a:prstGeom>
            <a:solidFill>
              <a:srgbClr val="c0c0c0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77240" y="4894200"/>
              <a:ext cx="1395360" cy="13431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efefe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88880" y="98100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fefefe"/>
              </a:gs>
              <a:gs pos="100000">
                <a:srgbClr val="3366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60520" y="98100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33"/>
              </a:gs>
              <a:gs pos="50000">
                <a:srgbClr val="fefefe"/>
              </a:gs>
              <a:gs pos="100000">
                <a:srgbClr val="339933"/>
              </a:gs>
            </a:gsLst>
            <a:lin ang="108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32160" y="98100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05600" y="98100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48520" y="98100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50000">
                <a:srgbClr val="fefefe"/>
              </a:gs>
              <a:gs pos="100000">
                <a:srgbClr val="ff3399"/>
              </a:gs>
            </a:gsLst>
            <a:lin ang="10800000"/>
          </a:gra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8880" y="2889360"/>
            <a:ext cx="1395360" cy="13428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50000">
                <a:srgbClr val="fefefe"/>
              </a:gs>
              <a:gs pos="100000">
                <a:srgbClr val="3399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0520" y="2889360"/>
            <a:ext cx="1395360" cy="13428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66"/>
              </a:gs>
              <a:gs pos="50000">
                <a:srgbClr val="fefefe"/>
              </a:gs>
              <a:gs pos="100000">
                <a:srgbClr val="00cc66"/>
              </a:gs>
            </a:gsLst>
            <a:lin ang="10800000"/>
          </a:gradFill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32160" y="288756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50000">
                <a:srgbClr val="fefefe"/>
              </a:gs>
              <a:gs pos="100000">
                <a:srgbClr val="ffcc66"/>
              </a:gs>
            </a:gsLst>
            <a:lin ang="10800000"/>
          </a:gra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05600" y="2889360"/>
            <a:ext cx="1395360" cy="13428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50000">
                <a:srgbClr val="fefefe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77240" y="2889360"/>
            <a:ext cx="1395360" cy="13428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10800000"/>
          </a:gra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8880" y="487044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60520" y="487044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99ff66"/>
              </a:gs>
              <a:gs pos="50000">
                <a:srgbClr val="fefefe"/>
              </a:gs>
              <a:gs pos="100000">
                <a:srgbClr val="99ff66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32160" y="4869000"/>
            <a:ext cx="1395360" cy="13428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05600" y="487044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77240" y="4870440"/>
            <a:ext cx="1395360" cy="13431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33520" y="3860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50000">
                <a:srgbClr val="fefefe"/>
              </a:gs>
              <a:gs pos="100000">
                <a:srgbClr val="3399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60520" y="191628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fefefe"/>
              </a:gs>
              <a:gs pos="100000">
                <a:srgbClr val="3366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60520" y="581508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32160" y="191628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fefefe"/>
              </a:gs>
              <a:gs pos="100000">
                <a:srgbClr val="3366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77240" y="198900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fefefe"/>
              </a:gs>
              <a:gs pos="100000">
                <a:srgbClr val="3366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60520" y="1628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33"/>
              </a:gs>
              <a:gs pos="50000">
                <a:srgbClr val="fefefe"/>
              </a:gs>
              <a:gs pos="100000">
                <a:srgbClr val="339933"/>
              </a:gs>
            </a:gsLst>
            <a:lin ang="108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60520" y="558972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99ff66"/>
              </a:gs>
              <a:gs pos="50000">
                <a:srgbClr val="fefefe"/>
              </a:gs>
              <a:gs pos="100000">
                <a:srgbClr val="99ff66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32160" y="582120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32160" y="558972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99ff66"/>
              </a:gs>
              <a:gs pos="50000">
                <a:srgbClr val="fefefe"/>
              </a:gs>
              <a:gs pos="100000">
                <a:srgbClr val="99ff66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32160" y="537372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05600" y="580536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05600" y="5516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99ff66"/>
              </a:gs>
              <a:gs pos="50000">
                <a:srgbClr val="fefefe"/>
              </a:gs>
              <a:gs pos="100000">
                <a:srgbClr val="99ff66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05600" y="522936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5600" y="494172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977240" y="580536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77240" y="5516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99ff66"/>
              </a:gs>
              <a:gs pos="50000">
                <a:srgbClr val="fefefe"/>
              </a:gs>
              <a:gs pos="100000">
                <a:srgbClr val="99ff66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977240" y="522936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77240" y="494172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77240" y="465300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0520" y="3860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50000">
                <a:srgbClr val="fefefe"/>
              </a:gs>
              <a:gs pos="100000">
                <a:srgbClr val="3399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32160" y="3860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50000">
                <a:srgbClr val="fefefe"/>
              </a:gs>
              <a:gs pos="100000">
                <a:srgbClr val="3399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05600" y="393372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50000">
                <a:srgbClr val="fefefe"/>
              </a:gs>
              <a:gs pos="100000">
                <a:srgbClr val="3399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977240" y="393372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50000">
                <a:srgbClr val="fefefe"/>
              </a:gs>
              <a:gs pos="100000">
                <a:srgbClr val="3399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60520" y="357336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66"/>
              </a:gs>
              <a:gs pos="50000">
                <a:srgbClr val="fefefe"/>
              </a:gs>
              <a:gs pos="100000">
                <a:srgbClr val="00cc66"/>
              </a:gs>
            </a:gsLst>
            <a:lin ang="10800000"/>
          </a:gradFill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32160" y="357336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66"/>
              </a:gs>
              <a:gs pos="50000">
                <a:srgbClr val="fefefe"/>
              </a:gs>
              <a:gs pos="100000">
                <a:srgbClr val="00cc66"/>
              </a:gs>
            </a:gsLst>
            <a:lin ang="10800000"/>
          </a:gradFill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05600" y="364500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66"/>
              </a:gs>
              <a:gs pos="50000">
                <a:srgbClr val="fefefe"/>
              </a:gs>
              <a:gs pos="100000">
                <a:srgbClr val="00cc66"/>
              </a:gs>
            </a:gsLst>
            <a:lin ang="10800000"/>
          </a:gradFill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977240" y="364500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66"/>
              </a:gs>
              <a:gs pos="50000">
                <a:srgbClr val="fefefe"/>
              </a:gs>
              <a:gs pos="100000">
                <a:srgbClr val="00cc66"/>
              </a:gs>
            </a:gsLst>
            <a:lin ang="10800000"/>
          </a:gradFill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32160" y="3284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50000">
                <a:srgbClr val="fefefe"/>
              </a:gs>
              <a:gs pos="100000">
                <a:srgbClr val="ffcc66"/>
              </a:gs>
            </a:gsLst>
            <a:lin ang="10800000"/>
          </a:gra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105600" y="335772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50000">
                <a:srgbClr val="fefefe"/>
              </a:gs>
              <a:gs pos="100000">
                <a:srgbClr val="ffcc66"/>
              </a:gs>
            </a:gsLst>
            <a:lin ang="10800000"/>
          </a:gra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977240" y="335772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50000">
                <a:srgbClr val="fefefe"/>
              </a:gs>
              <a:gs pos="100000">
                <a:srgbClr val="ffcc66"/>
              </a:gs>
            </a:gsLst>
            <a:lin ang="10800000"/>
          </a:gra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05600" y="3068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50000">
                <a:srgbClr val="fefefe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77240" y="3068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50000">
                <a:srgbClr val="fefefe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77240" y="278136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10800000"/>
          </a:gra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05600" y="198900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fefefe"/>
              </a:gs>
              <a:gs pos="100000">
                <a:srgbClr val="3366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32160" y="162864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33"/>
              </a:gs>
              <a:gs pos="50000">
                <a:srgbClr val="fefefe"/>
              </a:gs>
              <a:gs pos="100000">
                <a:srgbClr val="339933"/>
              </a:gs>
            </a:gsLst>
            <a:lin ang="108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05600" y="170028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33"/>
              </a:gs>
              <a:gs pos="50000">
                <a:srgbClr val="fefefe"/>
              </a:gs>
              <a:gs pos="100000">
                <a:srgbClr val="339933"/>
              </a:gs>
            </a:gsLst>
            <a:lin ang="108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977240" y="170028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9933"/>
              </a:gs>
              <a:gs pos="50000">
                <a:srgbClr val="fefefe"/>
              </a:gs>
              <a:gs pos="100000">
                <a:srgbClr val="339933"/>
              </a:gs>
            </a:gsLst>
            <a:lin ang="108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32160" y="134136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05600" y="141300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05600" y="112536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77240" y="148428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108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77240" y="119700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977240" y="90792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50000">
                <a:srgbClr val="fefefe"/>
              </a:gs>
              <a:gs pos="100000">
                <a:srgbClr val="ff3399"/>
              </a:gs>
            </a:gsLst>
            <a:lin ang="10800000"/>
          </a:gra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8880" y="1916280"/>
            <a:ext cx="1395360" cy="48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fefefe"/>
              </a:gs>
              <a:gs pos="100000">
                <a:srgbClr val="3366ff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88880" y="1060560"/>
            <a:ext cx="1395360" cy="855360"/>
            <a:chOff x="488880" y="1060560"/>
            <a:chExt cx="1395360" cy="855360"/>
          </a:xfrm>
        </p:grpSpPr>
        <p:sp>
          <p:nvSpPr>
            <p:cNvPr id="472" name=""/>
            <p:cNvSpPr/>
            <p:nvPr/>
          </p:nvSpPr>
          <p:spPr>
            <a:xfrm>
              <a:off x="488880" y="1060560"/>
              <a:ext cx="1395360" cy="610200"/>
            </a:xfrm>
            <a:prstGeom prst="rect">
              <a:avLst/>
            </a:prstGeom>
            <a:solidFill>
              <a:srgbClr val="808080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074600" y="1610640"/>
              <a:ext cx="223920" cy="3052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8880" y="1060560"/>
              <a:ext cx="139536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074600" y="1610640"/>
              <a:ext cx="223920" cy="305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88880" y="3068640"/>
            <a:ext cx="1395360" cy="855360"/>
            <a:chOff x="488880" y="3068640"/>
            <a:chExt cx="1395360" cy="855360"/>
          </a:xfrm>
        </p:grpSpPr>
        <p:sp>
          <p:nvSpPr>
            <p:cNvPr id="477" name=""/>
            <p:cNvSpPr/>
            <p:nvPr/>
          </p:nvSpPr>
          <p:spPr>
            <a:xfrm>
              <a:off x="488880" y="3068640"/>
              <a:ext cx="1395360" cy="610200"/>
            </a:xfrm>
            <a:prstGeom prst="rect">
              <a:avLst/>
            </a:prstGeom>
            <a:solidFill>
              <a:srgbClr val="808080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074600" y="3618720"/>
              <a:ext cx="223920" cy="3052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8880" y="3068640"/>
              <a:ext cx="139536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1074600" y="3618720"/>
              <a:ext cx="223920" cy="305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488880" y="5821200"/>
            <a:ext cx="1395360" cy="48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88880" y="5013360"/>
            <a:ext cx="1395360" cy="855360"/>
            <a:chOff x="488880" y="5013360"/>
            <a:chExt cx="1395360" cy="855360"/>
          </a:xfrm>
        </p:grpSpPr>
        <p:sp>
          <p:nvSpPr>
            <p:cNvPr id="483" name=""/>
            <p:cNvSpPr/>
            <p:nvPr/>
          </p:nvSpPr>
          <p:spPr>
            <a:xfrm>
              <a:off x="488880" y="5013360"/>
              <a:ext cx="1395360" cy="610200"/>
            </a:xfrm>
            <a:prstGeom prst="rect">
              <a:avLst/>
            </a:prstGeom>
            <a:solidFill>
              <a:srgbClr val="808080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074600" y="5563440"/>
              <a:ext cx="223920" cy="3052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8880" y="5013360"/>
              <a:ext cx="139536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074600" y="5563440"/>
              <a:ext cx="223920" cy="305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06-21T01:45:49Z</dcterms:modified>
  <cp:revision>1</cp:revision>
  <dc:subject>PPT175_データベース</dc:subject>
  <dc:title>PPT175_データベース</dc:title>
</cp:coreProperties>
</file>